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4C7-8BD9-4AB3-9024-9549C408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479-CA9F-4524-B522-2E7B29D0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7B4-BE90-431A-9DF1-1D43606B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880-FFB9-4360-823D-10957356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A32-3D82-47F8-88B8-95E7822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B75-2953-4379-AEC4-AE427C4A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8DD-B5B6-45A7-B77A-4367A2E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128-C029-4088-8409-CDF7EC6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A4F-7020-49BF-B94D-D9703F4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A0A-A230-4F00-9ED7-7902056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5A4-AF23-402B-9A54-0ED6B57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081-D938-4CA4-898A-E705C02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17B-9F61-4EE1-99AE-FA2F54082BF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44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14240" y="35712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i,I am Geeta Rajan.I teach English to Grade 11 and Grade 12 students.I love meeting people,making friends and visiting pla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7:33:19Z</dcterms:created>
  <dc:creator>sai baba</dc:creator>
  <dc:description/>
  <dc:language>en-US</dc:language>
  <cp:lastModifiedBy>sai baba</cp:lastModifiedBy>
  <dcterms:modified xsi:type="dcterms:W3CDTF">2010-02-13T17:36:25Z</dcterms:modified>
  <cp:revision>1</cp:revision>
  <dc:subject/>
  <dc:title>Slide 1</dc:title>
</cp:coreProperties>
</file>